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BF7-876D-4B8A-9374-0BE7550C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8B6-213F-4FC1-8ABE-A487E192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49B-79BD-4C85-B046-43030824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72E-C790-4A97-B0C9-258362DF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86ED-0A65-48DA-BAF9-AD6D7EB7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02AE-FBAF-417F-A4B6-0CD5CE40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B175-0FC7-46CD-BE77-0529E121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7B73-8DD1-4CF5-8FF4-88AFE3E0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BF59-4DA8-4C85-93EE-3FD15F17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435E-746F-4182-8568-BF92EE6D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562C-C014-4FCC-8534-7591D403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DC2-CFAC-42C9-BA86-F78E4AEB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A13F-6F82-4FF4-906A-DE9DB672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AE3C-DF1E-4E6A-AA97-37FBCF4F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D7E4-82E8-4FF7-AF08-7ADDF069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D024-CBD0-46AD-B76A-59D80D01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43AE-0760-4A43-9290-5EF7E1BB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1C899-D632-45BE-96BD-B9B48A46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BFAED-4FC1-4BA0-92B8-2FB5A436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9B869-9D30-4BA8-AF0F-BA409B51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03EDA-9378-493F-BCE5-8D36B4A5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CC57D-F18A-4257-942B-71FA0DC3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92BF-6E23-4480-95B8-ACF69B0B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E95CA-6A15-476E-A717-871637A0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D0C6F-78B3-4D2C-9B50-5917D806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959BE-C502-407A-8EED-356E4DF5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62C81-C5BF-4618-92C0-01CC8AA4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19E32-D5C9-46DB-A53A-8B5297A5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436E2-02F3-44F6-8A2F-C902DCFD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AD8B8-1885-474C-AD75-DD57877E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A33C4-3FF0-4B3E-8B14-FC95B301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AF7BA-0B60-455C-A2C0-BCC21F0C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0454F-6E37-4ACD-9370-C4A66FF2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E1C-3D9A-44E1-BB3B-206663C4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3E6DE-EECC-487C-9055-CA678BB3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95D33-178B-41CD-A7A4-8A4D3D0B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73A0D-1429-4805-A4F1-234B7095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A0FBF-527C-4FE5-98CB-3C1A32EE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A990B-126F-41B4-8049-2BB95ECB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CFE59-97B7-4D92-BF1C-834E662C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7EC32-90B2-4714-8061-B029642A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41ECF-8B0B-47CC-8867-9CC1688A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DC75D-FEA0-43C7-8350-3D1B4ECF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C5CDD-EADE-4115-BC4D-77CAE678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106-750A-4704-B149-C4B11435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32C17-DB8B-4B79-885A-425A3DB9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F7886-EFD5-4AC2-8137-AA965925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3F478-36A8-4FC0-9AD9-85B1807F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3D7CD-6F01-4302-AE86-53A66B72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40A31-1099-4D9D-B9D5-3D2E656B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C5B70-86D3-4301-BD9C-7D1A7B5F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FA5CC-7E05-4C6A-9103-738DA5B6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58B2B-EB16-4CD6-B631-412B5641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BC3CE-8CAD-41F8-B7F7-1AEC4483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13C95-17E7-4E55-A8F8-9522DE57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40C-E988-48BA-9F29-D7562C73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5D3FF-DC4D-41CE-BADC-6189D0B4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7D082-448E-43C4-A6F0-DA4E7775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BBBD7-BF66-4BDB-A5F2-A25E1715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8B7A3-A93B-49A4-B60E-58A72F84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EBD66-2DD8-4CD4-86C5-EBD244C2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2A5CE-DECD-47D7-9A80-C894872D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43A0D-C794-4CF9-A7F1-A92AD91D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1483A-D2E5-4D13-A366-51130ABB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16A9B-2CB1-4BBF-A440-C5FB0C59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7D73E-93A4-4179-83F8-B9256841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B2AF-6ECD-4EAB-AD10-C6CCDDBF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06B9B-C98B-48DD-8845-3DEDDA98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46672-4B9F-4C57-9704-D26A4122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CE8DB-E140-454C-BE0C-9B4023AF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EAD55-2717-4484-8808-6709E969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9E28B-B20C-4BEB-B7DF-C62D6B25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134D5-21FF-46C8-8B35-4DF0906F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DBD8D-A6FE-4CE6-960C-204F1E9B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2AA28-56A3-4614-8B54-691EA6B5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99C12-9652-47DE-BBC3-74840B64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AB261-8DA1-4550-A0CA-FF50C7FB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DFF-D45A-4CEE-A0F6-327A4E6F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BF9D7-F923-43D8-B08E-97614FFD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E43D4-12FE-4C34-BB4A-E89A6CE3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3E00F-1AA8-498D-AD32-DCE85F2B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59DA4-EEFD-4705-803E-2CD29503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261E6-E21D-42B9-A703-5AB3DF78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DA5-3447-43CB-A9CC-DA841DFA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A938-FBE3-4923-8F39-35B703FB6602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5492-E96B-4FF2-8159-640C6DDC69FE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E2F8-AA09-42D2-99D9-76476C7C1F6C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DED8-4E2E-42D7-8394-E33BEB33DA8C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6FF9-8814-4C5D-9D76-D55B077185A7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8E19-E342-47E5-BE8D-34114CB80673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DB6F-8C95-4A33-8EF4-5A08D295A0BB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38160" y="0"/>
            <a:ext cx="9105840" cy="4649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图片1"/>
          <p:cNvPicPr/>
          <p:nvPr/>
        </p:nvPicPr>
        <p:blipFill>
          <a:blip r:embed="rId1"/>
          <a:stretch/>
        </p:blipFill>
        <p:spPr>
          <a:xfrm>
            <a:off x="838080" y="1279440"/>
            <a:ext cx="7391520" cy="5273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QQ截图20121228131942"/>
          <p:cNvPicPr/>
          <p:nvPr/>
        </p:nvPicPr>
        <p:blipFill>
          <a:blip r:embed="rId2"/>
          <a:stretch/>
        </p:blipFill>
        <p:spPr>
          <a:xfrm>
            <a:off x="1066680" y="533520"/>
            <a:ext cx="914400" cy="884160"/>
          </a:xfrm>
          <a:prstGeom prst="rect">
            <a:avLst/>
          </a:prstGeom>
          <a:ln w="0">
            <a:noFill/>
          </a:ln>
        </p:spPr>
      </p:pic>
      <p:sp>
        <p:nvSpPr>
          <p:cNvPr id="339" name="WordArt 6"/>
          <p:cNvSpPr txBox="1"/>
          <p:nvPr/>
        </p:nvSpPr>
        <p:spPr>
          <a:xfrm>
            <a:off x="2438280" y="609480"/>
            <a:ext cx="5639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华文彩云"/>
              </a:rPr>
              <a:t>英语教学课件系列</a:t>
            </a:r>
            <a:endParaRPr b="1" i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华文彩云"/>
              <a:ea typeface="华文彩云"/>
            </a:endParaRPr>
          </a:p>
        </p:txBody>
      </p:sp>
      <p:sp>
        <p:nvSpPr>
          <p:cNvPr id="340" name="WordArt 7"/>
          <p:cNvSpPr txBox="1"/>
          <p:nvPr/>
        </p:nvSpPr>
        <p:spPr>
          <a:xfrm rot="20562000">
            <a:off x="3352680" y="4267080"/>
            <a:ext cx="6098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Go</a:t>
            </a:r>
            <a:endParaRPr b="1" i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1" name="WordArt 8"/>
          <p:cNvSpPr txBox="1"/>
          <p:nvPr/>
        </p:nvSpPr>
        <p:spPr>
          <a:xfrm rot="21002400">
            <a:off x="4191120" y="4095360"/>
            <a:ext cx="533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for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WordArt 9"/>
          <p:cNvSpPr txBox="1"/>
          <p:nvPr/>
        </p:nvSpPr>
        <p:spPr>
          <a:xfrm rot="20790600">
            <a:off x="4876560" y="3962520"/>
            <a:ext cx="533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it!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3" name="WordArt 10" descr=""/>
          <p:cNvPicPr/>
          <p:nvPr/>
        </p:nvPicPr>
        <p:blipFill>
          <a:blip r:embed="rId3"/>
          <a:stretch/>
        </p:blipFill>
        <p:spPr>
          <a:xfrm>
            <a:off x="6997680" y="1816200"/>
            <a:ext cx="1701720" cy="482400"/>
          </a:xfrm>
          <a:prstGeom prst="rect">
            <a:avLst/>
          </a:prstGeom>
          <a:ln w="0">
            <a:noFill/>
          </a:ln>
        </p:spPr>
      </p:pic>
      <p:sp>
        <p:nvSpPr>
          <p:cNvPr id="344" name="Line 11"/>
          <p:cNvSpPr/>
          <p:nvPr/>
        </p:nvSpPr>
        <p:spPr>
          <a:xfrm>
            <a:off x="914400" y="1523880"/>
            <a:ext cx="731520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584d3"/>
                </a:solidFill>
                <a:latin typeface="Candara"/>
              </a:rPr>
              <a:t>Rewrite the following sentences using “so…that…”</a:t>
            </a: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04920" y="1143000"/>
            <a:ext cx="84582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584d3"/>
                </a:solidFill>
                <a:latin typeface="Times New Roman"/>
                <a:ea typeface="宋体"/>
              </a:rPr>
              <a:t>1.The camera cost very much. I didn’t buy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584d3"/>
                </a:solidFill>
                <a:latin typeface="Times New Roman"/>
                <a:ea typeface="宋体"/>
              </a:rPr>
              <a:t>2.The trip cost very little. They all w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584d3"/>
                </a:solidFill>
                <a:latin typeface="Times New Roman"/>
                <a:ea typeface="宋体"/>
              </a:rPr>
              <a:t>3.Ed lent me an umbrella </a:t>
            </a:r>
            <a:r>
              <a:rPr b="1" lang="zh-CN" sz="3000" spc="-1" strike="noStrike">
                <a:solidFill>
                  <a:srgbClr val="4584d3"/>
                </a:solidFill>
                <a:latin typeface="Times New Roman"/>
                <a:ea typeface="宋体"/>
              </a:rPr>
              <a:t>（以便我不会在雨中淋湿</a:t>
            </a:r>
            <a:r>
              <a:rPr b="1" lang="zh-CN" sz="3000" spc="-1" strike="noStrike">
                <a:solidFill>
                  <a:srgbClr val="4584d3"/>
                </a:solidFill>
                <a:latin typeface="Times New Roman"/>
                <a:ea typeface="宋体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584d3"/>
                </a:solidFill>
                <a:latin typeface="Times New Roman"/>
                <a:ea typeface="宋体"/>
              </a:rPr>
              <a:t>4.Miyoko bought a camera (</a:t>
            </a:r>
            <a:r>
              <a:rPr b="1" lang="zh-CN" sz="3000" spc="-1" strike="noStrike">
                <a:solidFill>
                  <a:srgbClr val="4584d3"/>
                </a:solidFill>
                <a:latin typeface="Times New Roman"/>
                <a:ea typeface="宋体"/>
              </a:rPr>
              <a:t>以便她能在北京拍照</a:t>
            </a:r>
            <a:r>
              <a:rPr b="1" lang="zh-CN" sz="3000" spc="-1" strike="noStrike">
                <a:solidFill>
                  <a:srgbClr val="4584d3"/>
                </a:solidFill>
                <a:latin typeface="Times New Roman"/>
                <a:ea typeface="宋体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532080" y="1600200"/>
            <a:ext cx="784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宋体"/>
              </a:rPr>
              <a:t>The camera cost </a:t>
            </a:r>
            <a:r>
              <a:rPr b="1" lang="zh-CN" sz="3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so much that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宋体"/>
              </a:rPr>
              <a:t> I didn’t buy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612720" y="2514600"/>
            <a:ext cx="654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宋体"/>
              </a:rPr>
              <a:t>The trip cost </a:t>
            </a:r>
            <a:r>
              <a:rPr b="1" lang="zh-CN" sz="3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so little that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宋体"/>
              </a:rPr>
              <a:t> they all w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685440" y="3962520"/>
            <a:ext cx="7771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宋体"/>
              </a:rPr>
              <a:t>Ed lent me an umbrella </a:t>
            </a:r>
            <a:r>
              <a:rPr b="1" lang="zh-CN" sz="3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so that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宋体"/>
              </a:rPr>
              <a:t> I wouldn’t  g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宋体"/>
              </a:rPr>
              <a:t>wet in the r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609480" y="5486400"/>
            <a:ext cx="7941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宋体"/>
              </a:rPr>
              <a:t>Miyoko bought a camera </a:t>
            </a:r>
            <a:r>
              <a:rPr b="1" lang="zh-CN" sz="3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so that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宋体"/>
              </a:rPr>
              <a:t> she could tak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宋体"/>
              </a:rPr>
              <a:t> </a:t>
            </a:r>
            <a:r>
              <a:rPr b="1" lang="zh-CN" sz="3000" spc="-1" strike="noStrike">
                <a:solidFill>
                  <a:srgbClr val="ff33cc"/>
                </a:solidFill>
                <a:latin typeface="Times New Roman"/>
                <a:ea typeface="宋体"/>
              </a:rPr>
              <a:t>pictures in Beij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250920" y="1066680"/>
            <a:ext cx="8893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little boy saved every coin_________ he could buy his favorite b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e bought a digital camera online ______s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uld save a lot of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so that                         B. as soon as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no matter                   D. such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fine day it is today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es,the sunshine is__________beautiful that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’d like to go swimming in the se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How, such               B. What a, ver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How, so                   D. What a, 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6095880" y="99072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o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7316640" y="2057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1982520" y="3962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381960" y="304200"/>
            <a:ext cx="43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Excises about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so that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380880" y="533520"/>
            <a:ext cx="82296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当球迷们看到贝克汉姆的时候，他们如此激动以致于大喊大叫。（根据中文意思完成句子， 每空一词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the football fans saw Beckham, they got______ excited _______they cried 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The camera is ______expensive__________ I can't afford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. so, that                 B. such,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. so, as to                D. enough,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1289880" y="304812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o                     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3811320" y="3657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2410560" y="981000"/>
            <a:ext cx="299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宋体"/>
              </a:rPr>
              <a:t>Home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830160" y="2133720"/>
            <a:ext cx="804420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se your own words to retell a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actice more excises about unless, as so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s and so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WordArt 4"/>
          <p:cNvSpPr txBox="1"/>
          <p:nvPr/>
        </p:nvSpPr>
        <p:spPr>
          <a:xfrm>
            <a:off x="1676520" y="2438280"/>
            <a:ext cx="62481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9900"/>
                </a:solidFill>
                <a:latin typeface="华文行楷"/>
              </a:rPr>
              <a:t>Thank You!</a:t>
            </a:r>
            <a:endParaRPr b="0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9900"/>
              </a:solidFill>
              <a:latin typeface="华文行楷"/>
              <a:ea typeface="华文行楷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914400" y="1219320"/>
            <a:ext cx="7416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宋体"/>
              </a:rPr>
              <a:t>Unit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宋体"/>
              </a:rPr>
              <a:t>An old man tried to move the mountai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WordArt 6"/>
          <p:cNvSpPr txBox="1"/>
          <p:nvPr/>
        </p:nvSpPr>
        <p:spPr>
          <a:xfrm>
            <a:off x="2209680" y="4191120"/>
            <a:ext cx="496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Self Check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1066680" y="2057400"/>
            <a:ext cx="708660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We will be late unles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You won’t be successful unles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As soon as I got to the bus sto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Bill opened his book as soon a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The movie was so touching tha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 The boy was so excited that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458640" y="609480"/>
            <a:ext cx="74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Use your own ideas to complete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28080" y="1295280"/>
            <a:ext cx="895320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 will be late unless we run to school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 won’t be successful unless you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rd from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As soon as I got to the bus stop, I gave 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call to ask whether she had left alre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Bill opened his book as soon as he cam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609480" y="990720"/>
            <a:ext cx="7772400" cy="49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5. The movie was so touching that both of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s were sweeping for a lo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6. The boy was so excited that he could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hardly say a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380880" y="1676520"/>
            <a:ext cx="853452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nce upon a time, there_____ (be) an emper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e ______(love) buying and looking at clothes. One day, two brothers _____(come) to the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y ______(tell) the emperor that they could make beautiful clothes for him, but he must ______ (give) them silk and gold. The 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(be) bad people. They______ (keep) all the silk and gold for themselves. They tol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383760" y="457200"/>
            <a:ext cx="85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2. Fill in the blanks with the correct for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of the words in brack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4801680" y="1752480"/>
            <a:ext cx="8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143360" y="236232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l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4420080" y="297180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1677240" y="358128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609840" y="480060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534240" y="541008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5411160" y="541008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304920" y="609480"/>
            <a:ext cx="853416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mperor the clothes they made______ (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pecial because only clever people could____ (see) them. When the emperor____ (put) on the clothes, all he could see was his underw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ut he didn’t want people to ______ (thin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e was stupid, so he______ (say) the clothes were beautiful. Then he______ (walk)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ity in his new clothes until one boy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shout), “The emperor isn’t wearing any cloth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020640" y="68580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7240320" y="137160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5716080" y="198108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5563800" y="3200400"/>
            <a:ext cx="11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4039920" y="388620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4496400" y="457200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l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7086960" y="518148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ho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283680" y="456120"/>
            <a:ext cx="860796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根据括号中的提示，用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unless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完成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 won’t get there on time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(hurr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We can’t have a picnic 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it, a nice da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Don’t leave the TV on 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watch i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We can’t do the job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(get some hel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I won’t buy the picture__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like i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5713920" y="1447920"/>
            <a:ext cx="30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 you hu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1143360" y="1981080"/>
            <a:ext cx="15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p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4798440" y="2514600"/>
            <a:ext cx="39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 it is a nice 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4722120" y="3429000"/>
            <a:ext cx="367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 you watc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4341600" y="4343400"/>
            <a:ext cx="33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 we can g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1067040" y="4876920"/>
            <a:ext cx="19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ome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4875480" y="5410080"/>
            <a:ext cx="32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 you like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611280" y="456840"/>
            <a:ext cx="78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Complete the sentence with if or unl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533520" y="1219320"/>
            <a:ext cx="8229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hel will be pleased ________she passe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 driving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bus won’t stop______ you ring the b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I can’t read your writing ______you print i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Emma will be upset ________she doesn’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he jo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You can’t go inside the cinema_______ you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a ti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Don’t bother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打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to ring me _______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something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5259600" y="11430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4268160" y="213372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5411160" y="266688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4954680" y="35812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6478200" y="457200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6173280" y="548640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will</cp:lastModifiedBy>
  <dcterms:modified xsi:type="dcterms:W3CDTF">2016-03-25T02:55:09Z</dcterms:modified>
  <cp:revision>2</cp:revision>
  <dc:subject/>
  <dc:title>PowerPoint 演示文稿</dc:title>
</cp:coreProperties>
</file>